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256-CE06-4159-A4AF-18305408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B7D-81EB-40C2-84B1-F3F5EAD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5D6-98C2-4E41-8448-CFD37FF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30D-F75C-4E44-B95A-507E97D2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8D0-D0E7-4365-9755-71508C64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49F-B208-4D26-A2BD-97C67E2D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BBB-AC0F-4C5D-932D-A4F6BEDA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EC7-A6AC-4C1C-9B36-E0B4060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605-820D-441A-9DA9-6971E7C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BBD-3133-4AAA-937B-E9B514C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342-FCA1-412C-9266-B318852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F4A-223F-408D-B5DC-D7F1CDA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FDE-1CBC-47F6-896C-12BE7FDF781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9 Pane, ty nám dávaš hoj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y nám dávaš hojn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darov svojej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ti za to odovzd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plné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aj dnes našu chvá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ú obeť zmiere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z hrobu ukáza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u k sláve vzkrie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y tvojej ruky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 verne zúroč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užbou blížnym bez rept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klad tvojej lásky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vôľu, chcenie, snah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práci úspech, radosť pr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náporom pokuš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u bdelú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možno, stále dávaš mierou svojej štedr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irkev svoju zachováva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ravde, láske, svor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drahý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kiaľ naša trvá p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íme, že lampe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dáš vo tme vyhas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8:31:25Z</dcterms:modified>
  <cp:revision>53</cp:revision>
  <dc:subject/>
  <dc:title>Je veľký náš Pán, on slávy je Kráľ Nech do všetkých strán  spev vrúcnych znie chvál.</dc:title>
</cp:coreProperties>
</file>